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41206"/>
        <c:axId val="39658084"/>
      </c:barChart>
      <c:catAx>
        <c:axId val="62841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58084"/>
        <c:crosses val="autoZero"/>
        <c:auto val="1"/>
        <c:lblAlgn val="ctr"/>
        <c:lblOffset val="100"/>
        <c:noMultiLvlLbl val="0"/>
      </c:catAx>
      <c:valAx>
        <c:axId val="39658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41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7920-6957-4037-8ED8-99D93153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63F-EE0A-45C8-BDBD-79C6A033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C58-866C-466A-89FE-F0516656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44C-739F-44E4-A9F2-E3C27610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0FAB-BB4B-4F34-BCD8-F47DA3B6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B76B-B4D4-4310-B786-F0076A43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5F4-873C-4E85-B60A-CADB4334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8B2-37B6-40ED-8E93-11A6A13C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3F2-A55B-4695-8526-43A15AE1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960-B7B7-461D-A7C8-C1993BBD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ECB-80FF-4238-9BBA-E1810A59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F6C-FCCF-4315-90AA-1EFBECEC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77612-210F-45D5-BBD9-9EB0A6C145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