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23138"/>
        <c:axId val="13781990"/>
      </c:barChart>
      <c:catAx>
        <c:axId val="283231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81990"/>
        <c:crosses val="autoZero"/>
        <c:auto val="1"/>
        <c:lblAlgn val="ctr"/>
        <c:lblOffset val="100"/>
        <c:noMultiLvlLbl val="0"/>
      </c:catAx>
      <c:valAx>
        <c:axId val="13781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231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EB08-89BA-4F9C-804E-83FAC9C9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645-1319-4671-B62A-AD08CA5A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994-AB1F-40FB-942B-0585593E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BF2-284E-4205-9109-3144D896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660-60B6-4034-9150-D079C31C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DE9-2EE4-477D-A9C8-632345D6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6AA-820B-4B4D-940A-06C3A4BE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565D-6BA1-466C-95FA-F662ACB6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A6B-6B68-44F4-BE85-093A348C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132-8B51-46B4-A77C-4F0FC486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111C-12A2-46CA-9E8E-12E8D1B5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0615-844C-4BAC-B323-250E1E3E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E4CB0-3C3A-439E-98E3-DAB8175FD2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