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76849"/>
        <c:axId val="1632287"/>
      </c:barChart>
      <c:catAx>
        <c:axId val="31976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2287"/>
        <c:crosses val="autoZero"/>
        <c:auto val="1"/>
        <c:lblAlgn val="ctr"/>
        <c:lblOffset val="100"/>
        <c:noMultiLvlLbl val="0"/>
      </c:catAx>
      <c:valAx>
        <c:axId val="1632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76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291-27D3-4309-8DAC-AA18008D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41D-5339-4AAB-92D6-261B4AFA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5D2-2886-470A-B855-C4C15BCB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E13-F049-47AA-834E-83126AC5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E42-9B0F-4387-B54F-9B1DF24F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1CE-2976-4E4C-BD1C-304660DC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941-72B6-402B-A122-200A7AFB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777-DA52-4E4E-A4C0-4453C456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304-E58C-454E-9E05-265B42B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DB7-F070-4B0C-807F-AC8FC446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937-32D4-49F8-86B8-7915E31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710-A087-474D-A099-29503D6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47BEC-5B97-4072-B6A9-7DF7E4AB8C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