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57491"/>
        <c:axId val="71297189"/>
      </c:barChart>
      <c:catAx>
        <c:axId val="41557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97189"/>
        <c:crosses val="autoZero"/>
        <c:auto val="1"/>
        <c:lblAlgn val="ctr"/>
        <c:lblOffset val="100"/>
        <c:noMultiLvlLbl val="0"/>
      </c:catAx>
      <c:valAx>
        <c:axId val="71297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7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90A-646E-4F4B-B939-9846FC84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36D-3F60-42E7-B2B5-C3CEBC99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630-36B8-4781-BDE9-F46EBD2C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AF9-58D1-4FEF-83F4-0DE205D9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8F4-4F32-49D5-9CB3-A0A82E6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6C5-24ED-4477-B1AE-66245E4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1C5-9985-41D5-8992-8989BAE2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43E-45B9-421A-9A5A-DCCA4D8A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7EF-29F7-4B45-9471-7D52670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7B6-DE86-4E35-BD4D-E1258AA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631-47E8-4E41-BE61-5B329E3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70A-F97A-44E6-BAB0-6247AFA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BB45D-5F42-4FCA-AB92-5C006DB339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