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45044"/>
        <c:axId val="24790560"/>
      </c:barChart>
      <c:catAx>
        <c:axId val="83545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90560"/>
        <c:crosses val="autoZero"/>
        <c:auto val="1"/>
        <c:lblAlgn val="ctr"/>
        <c:lblOffset val="100"/>
        <c:noMultiLvlLbl val="0"/>
      </c:catAx>
      <c:valAx>
        <c:axId val="24790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5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111-3878-4F06-9830-0646CB47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1E9-33F0-4C26-A14D-AF31B5E0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D25-0561-4D9C-856C-3C7B184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3FA-9E6C-424F-826A-5AA583B4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294-0FFA-4BEC-AB15-8F6DBC32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E71-7B77-4217-85F9-4C547A59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4D8-2E5E-419C-8062-F357429B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F66-E885-48A7-8120-389F6A4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A4C-03F2-4210-B926-E4F5FC7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E5D-BF03-4D7F-B39C-8832610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E46-93D6-4DF7-B65D-6FC3DE9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D0B-CBF2-411E-A6A9-CC30156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2933A-F607-4DA3-8F1A-7DEC20DBD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