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6364"/>
        <c:axId val="19097646"/>
      </c:barChart>
      <c:catAx>
        <c:axId val="44636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097646"/>
        <c:crosses val="autoZero"/>
        <c:auto val="1"/>
        <c:lblAlgn val="ctr"/>
        <c:lblOffset val="100"/>
        <c:noMultiLvlLbl val="0"/>
      </c:catAx>
      <c:valAx>
        <c:axId val="190976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636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83A1-D8DE-463D-AC43-2AE3DDEC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17F8-23B4-4C7B-8C23-8ABC0ED54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309E-8774-42F2-A1DA-E403D320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5670-3DFF-4F7B-8CD5-51F10EB25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FF3E-1163-45F9-BC6A-03BDEA0BE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0BB5-4220-4F68-854D-210D2D97F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6FB6-D58C-4745-9671-E3B98BB46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5EFEB-6AED-4B2D-96B9-E461A0BC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6F4B-84EA-43DB-9277-265F69CD1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9AA9-46C8-4376-8F53-C852B70D7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CD44-6D77-48BB-9B1B-4E42DF313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4158-5FDE-42A8-B61A-8D363B7B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A1392B-451A-4C8E-B95F-A7396311E2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