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28850"/>
        <c:axId val="16338922"/>
      </c:barChart>
      <c:catAx>
        <c:axId val="95628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38922"/>
        <c:crosses val="autoZero"/>
        <c:auto val="1"/>
        <c:lblAlgn val="ctr"/>
        <c:lblOffset val="100"/>
        <c:noMultiLvlLbl val="0"/>
      </c:catAx>
      <c:valAx>
        <c:axId val="16338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8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095-D830-4112-99A4-35DCD9A4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259-4BE0-49CA-AE0A-47C5362D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A7D-14E0-4CD9-9C7C-594BA537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1A5-7209-49A8-BCD3-A664C930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D36-4C66-46B3-B636-1EC4AF8E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B9A-7B81-491E-9965-DB63075C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C7C-1E8F-4220-9003-D1338B08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690-6464-4B47-BFAE-324F5C93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95B-1FC7-42F7-B904-27A456B0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7E5-D0B6-42D9-AE4C-969AD6D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EBD-1B6C-40FE-9F16-3205C127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0C9-2257-43FF-8ACF-FC029DC8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841A3-9F47-423C-AA04-93B956436B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