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34916"/>
        <c:axId val="59128255"/>
      </c:barChart>
      <c:catAx>
        <c:axId val="54234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28255"/>
        <c:crosses val="autoZero"/>
        <c:auto val="1"/>
        <c:lblAlgn val="ctr"/>
        <c:lblOffset val="100"/>
        <c:noMultiLvlLbl val="0"/>
      </c:catAx>
      <c:valAx>
        <c:axId val="59128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34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7D1-7802-4AB1-98D0-97BD6127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E83-B981-4878-AE4C-51C95E9E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02E-C20B-4A2B-8FEB-9C66FA77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10F-04A8-4EC4-9AB4-5F36C113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F2A-2623-443B-8850-8D7E2E4C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102-C6A5-4E85-84CA-8685FBD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6D9-2FD2-490F-AA78-59602295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B81-DE54-4534-973D-10719F1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856-465F-4A64-9750-C5E5237F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22F-826B-4D44-8EE9-5B3693F7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377-5256-428F-9D56-8CBAF9D8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4E2-A388-4976-B0C9-6688739E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CD126-0655-4969-B7B8-5C0FC5D4B5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