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54798"/>
        <c:axId val="19652958"/>
      </c:barChart>
      <c:catAx>
        <c:axId val="264547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52958"/>
        <c:crosses val="autoZero"/>
        <c:auto val="1"/>
        <c:lblAlgn val="ctr"/>
        <c:lblOffset val="100"/>
        <c:noMultiLvlLbl val="0"/>
      </c:catAx>
      <c:valAx>
        <c:axId val="196529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547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A13-840F-49C5-8D46-D7C4DC06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BB3B-0667-4C60-9C84-488B9890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D78-2D34-44A8-B4FC-AF5283B0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5DB-E21A-4937-9E8E-3CB37ED2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9D68-5AB1-4F04-8B89-3A25062A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9A2-EA81-4BF7-A2CC-E687CA83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4DF-B6C6-4809-804B-E5D48103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72B-0ED9-4136-8798-AE9E851D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CCA-C5CE-43A1-AC8B-74F67BCE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B808-72C7-40AB-8E0A-D63934F7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595-6CB7-4038-A9BE-CD86AB02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6B5A-4E00-4F5E-BFA9-3DB3B017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0B3ED-D6A8-4D1A-857E-7CDF17DDF5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