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24396"/>
        <c:axId val="52518132"/>
      </c:barChart>
      <c:catAx>
        <c:axId val="11924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18132"/>
        <c:crosses val="autoZero"/>
        <c:auto val="1"/>
        <c:lblAlgn val="ctr"/>
        <c:lblOffset val="100"/>
        <c:noMultiLvlLbl val="0"/>
      </c:catAx>
      <c:valAx>
        <c:axId val="52518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4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C60-8B78-4785-8901-D1D07F94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7B6-F3CC-48A6-AD31-7AA25F9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E0C-F22A-4379-A045-1409B475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618-A7F2-4CAE-885E-CBC7F0B4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A2A-CCEC-4715-ADD0-1230430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7D7-2A02-428A-BBD6-3A278D1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6F9-7A39-4C2A-8CA2-6DEEF1D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089-1DDD-422A-BECD-5218BDD8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F66-2374-4BC1-A0B8-B3452B7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BF1-A4AA-4D27-B559-E36C392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A69-31ED-4BA9-8232-26C000B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E47-0257-460F-BE75-7897ACE3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2D914-1FE2-4A6C-8B82-631D0CDA1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