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2601"/>
        <c:axId val="5988747"/>
      </c:barChart>
      <c:catAx>
        <c:axId val="8712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8747"/>
        <c:crosses val="autoZero"/>
        <c:auto val="1"/>
        <c:lblAlgn val="ctr"/>
        <c:lblOffset val="100"/>
        <c:noMultiLvlLbl val="0"/>
      </c:catAx>
      <c:valAx>
        <c:axId val="5988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2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C88-5EA7-4149-B1D7-3F66B6CC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C9B-9C58-4D53-845C-F3E63DBC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CEB-716B-4559-920A-EC6E23FE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3E3-127F-4A07-AB59-13EB3DAE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210-3943-4FD3-B85F-298C39C7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094-0512-47CA-AF4C-0263AC7E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44B-6DB7-498A-8175-E5D093B8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A3C-EFCB-4B35-8481-16763535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537-D710-4DC4-967C-D71B40D3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5E4-2201-4247-9085-11CA14B3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09D-EBFD-4C20-AAED-96A2AC1F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B54-7C29-4DB6-BF85-0671C917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3D1DA-79A9-4EAD-9EDE-83F6AEB0AC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