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7496"/>
        <c:axId val="86268791"/>
      </c:barChart>
      <c:catAx>
        <c:axId val="91174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68791"/>
        <c:crosses val="autoZero"/>
        <c:auto val="1"/>
        <c:lblAlgn val="ctr"/>
        <c:lblOffset val="100"/>
        <c:noMultiLvlLbl val="0"/>
      </c:catAx>
      <c:valAx>
        <c:axId val="86268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74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27B-3FB6-4823-AC62-9C1D5CAA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B7D-391F-462A-8830-30FB78E9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164-81F6-4FE3-8225-EB884346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FB9-98A3-4D20-8A57-B62685BB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0FA-0BE1-429B-8412-E1E3ECC4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C99-0B06-4627-A2BF-3F1FF63C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BCD-CB6A-476F-B67E-413D7CA8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166-0951-4C97-9472-E2874EA5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1D8-C698-40AB-960D-1886DCDF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7F7-76C6-4258-B641-F9CB97A1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1C2-82B0-45D5-A83A-6B6E112A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177-99F8-40A2-BFD2-DBB7EC8C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3A21C-3E66-43AD-9A05-7984CA8F68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