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82140"/>
        <c:axId val="34582172"/>
      </c:barChart>
      <c:catAx>
        <c:axId val="93682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82172"/>
        <c:crosses val="autoZero"/>
        <c:auto val="1"/>
        <c:lblAlgn val="ctr"/>
        <c:lblOffset val="100"/>
        <c:noMultiLvlLbl val="0"/>
      </c:catAx>
      <c:valAx>
        <c:axId val="34582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82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0E5-DFD4-4D0F-88AA-C31262EF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737-83CA-42E1-A2F2-2189DAA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A36-B8D9-4C03-AD4B-D0C2EFFD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45B-32C4-446B-98C1-4CC02F73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F50-BEAE-4394-838A-B6EA8D59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C83-3280-4C0F-BCB2-9F9FE2F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093-A58A-4D10-A22D-02474DBE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7E5-4EF5-432C-AD37-80CB8B5C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7C4-A8C1-44E7-8183-BA9EF2DC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2A8-51D2-4D88-AE02-F7FC99F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0EE-C8DD-4BE9-87AC-E95F332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A58-FF66-4AB1-85EC-F02E800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AF92B-F608-4BDB-A4FC-B3A220742C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