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62748"/>
        <c:axId val="14632656"/>
      </c:barChart>
      <c:catAx>
        <c:axId val="987627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32656"/>
        <c:crosses val="autoZero"/>
        <c:auto val="1"/>
        <c:lblAlgn val="ctr"/>
        <c:lblOffset val="100"/>
        <c:noMultiLvlLbl val="0"/>
      </c:catAx>
      <c:valAx>
        <c:axId val="14632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627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A2A-2278-4ADA-AF16-45E95E5A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C42-071D-4709-8DE3-D944DD50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024-9743-4C72-B950-18B55C97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D2A-BB38-47E6-8FAC-D0860DD0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92B-C6D5-4E27-9CCC-7E2A5684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D53-EB04-4754-99F0-5AE9AFEA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200-E3EF-43E2-91D8-08850C48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8FC-1988-4971-8E77-BFB62886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23B-B806-48CE-AD3C-225E2B56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DD6-A9F3-4D59-9DC8-3095463F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A7A-51FD-4F95-B130-10C1EF64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EF1-63AD-4C7C-B53E-885D9361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5F2C1-B10A-4C5E-AF93-D07C31D878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