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29474"/>
        <c:axId val="67657824"/>
      </c:barChart>
      <c:catAx>
        <c:axId val="48829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57824"/>
        <c:crosses val="autoZero"/>
        <c:auto val="1"/>
        <c:lblAlgn val="ctr"/>
        <c:lblOffset val="100"/>
        <c:noMultiLvlLbl val="0"/>
      </c:catAx>
      <c:valAx>
        <c:axId val="67657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29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9A0-1507-4071-9788-ADEEEA78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2EE2-B6DD-4BD5-BD1A-D9671D74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AC2-C829-4297-9EFA-5AB0BC9E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F7CC-0C5F-44C6-AF80-5C13AC16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F11-B384-404F-83D8-C6D66F94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579-C11E-439C-8279-9FBA7FC3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993-EA56-4DB4-A045-D15742BF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8AD-48F6-456F-997E-D3A2C4C8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436-EFD1-4695-AF3F-1012A6DF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D93-8E3E-44B7-865F-2EF5E083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F14-E3D0-488A-B4B2-F732D607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ECC-0811-4A9A-A2C0-2CC98609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40767-9248-488C-8C6F-D841EE4987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