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85590"/>
        <c:axId val="32346925"/>
      </c:barChart>
      <c:catAx>
        <c:axId val="73485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46925"/>
        <c:crosses val="autoZero"/>
        <c:auto val="1"/>
        <c:lblAlgn val="ctr"/>
        <c:lblOffset val="100"/>
        <c:noMultiLvlLbl val="0"/>
      </c:catAx>
      <c:valAx>
        <c:axId val="323469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85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558-FDD3-4730-9546-B8BBEF40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1535-3F3E-4DE0-A811-81070BE2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E12-5470-4C37-954D-161A70DB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5247-F622-403D-A249-AA29048DA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9E6-2583-4B83-96C9-96B18E23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1EC-FD2B-4190-8E16-8478DF0C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8C5-C85C-450F-AA7E-51EBA92A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2AB-32C8-4ACE-88CC-A3A17BDD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BA8-9DC0-4A3D-B03E-E68B2045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468-4572-4BCB-8DE9-1DF527D5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F5B-C750-4DB7-99C7-2E078256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2B0D-686B-4679-B80E-0A3284B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5867F-4965-4147-8B7B-60EDA6A80C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