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58946"/>
        <c:axId val="96043775"/>
      </c:barChart>
      <c:catAx>
        <c:axId val="84958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43775"/>
        <c:crosses val="autoZero"/>
        <c:auto val="1"/>
        <c:lblAlgn val="ctr"/>
        <c:lblOffset val="100"/>
        <c:noMultiLvlLbl val="0"/>
      </c:catAx>
      <c:valAx>
        <c:axId val="96043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58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047-7EC2-43A1-A32A-E3851B88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A0E-2BE9-41E2-9D4F-340A5564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F19-7367-4155-B28A-AA2EFD5D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559-470A-48F7-8B5E-97E23907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ADE-9BE4-4EC4-A0D6-1A82A561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C9C-48D8-4835-80A6-92328CD3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987-4502-4741-B3C4-C893F789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FDB-0616-4AB6-828E-908A42FC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220-89B3-4DC6-81E9-FECD7508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9C5-AE38-4AA1-8863-6778BCDE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50B-85C6-4F9B-88B5-E8427B7B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CA7-3446-409F-AAB8-05574752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348B8-1353-4E0E-BAE6-E5AE0B7B27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