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998175"/>
        <c:axId val="10683691"/>
      </c:barChart>
      <c:catAx>
        <c:axId val="729981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683691"/>
        <c:crosses val="autoZero"/>
        <c:auto val="1"/>
        <c:lblAlgn val="ctr"/>
        <c:lblOffset val="100"/>
        <c:noMultiLvlLbl val="0"/>
      </c:catAx>
      <c:valAx>
        <c:axId val="106836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9981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5104-BF61-4802-916D-FDA15B5C4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9243-5864-4A97-B2F0-74A9C838E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E0EC-619F-4E96-A082-2FF41ECDB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2BB1-32B7-4000-9CDD-071906AAE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9BCC-7B08-469E-BD8D-D84C7DB68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354C-BD77-431F-99E8-848DE415E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3237-E024-48BE-BC96-97EFD7AB4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013B-2AAE-4E99-B921-47A5A75D1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1A49-9858-4ED8-9EF1-D00FFED5E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123F-AC8C-459A-BF30-75DB2C91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B667-6718-4D93-83EA-31E1813C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A4B6-97B2-4799-87B1-DFC239BE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7763C8-9EBF-427E-94B5-E05FB30B337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