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40776"/>
        <c:axId val="99051543"/>
      </c:barChart>
      <c:catAx>
        <c:axId val="82740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1543"/>
        <c:crosses val="autoZero"/>
        <c:auto val="1"/>
        <c:lblAlgn val="ctr"/>
        <c:lblOffset val="100"/>
        <c:noMultiLvlLbl val="0"/>
      </c:catAx>
      <c:valAx>
        <c:axId val="99051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0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B4C-87FC-460A-8271-241E8B5B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339-9A15-4E9B-B185-2A6B284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F81-5AB8-4C06-B22D-019F3858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70F-7E85-443D-A120-91EC8DD6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234-BA09-42FD-BF10-1ABB4AC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2E2-23CF-4DFE-9F2F-817A852F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8B4-0706-457E-AB0C-B1A69AB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B7F-083A-4505-A3A3-3AD19ED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D2D-8566-4834-854C-A307DD0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12C-DEA3-4A09-975B-1C3BA510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9E5-743E-4572-93AA-13AC057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D15-D380-4C56-940D-DE7FA09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B0914-07D6-4D9A-B24F-8EA9D6858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