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50824"/>
        <c:axId val="43507631"/>
      </c:barChart>
      <c:catAx>
        <c:axId val="28350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07631"/>
        <c:crosses val="autoZero"/>
        <c:auto val="1"/>
        <c:lblAlgn val="ctr"/>
        <c:lblOffset val="100"/>
        <c:noMultiLvlLbl val="0"/>
      </c:catAx>
      <c:valAx>
        <c:axId val="43507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50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A00-485D-4EFC-A444-1E81BCED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F4D-7856-4852-A05D-9AB28290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9F3-A204-4518-B04B-72B07FA7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F1F-BE6E-45A0-8AFC-DECF38B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025-D436-4A14-BB21-705BDB2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205-2921-4AFB-AB01-BACB125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3BD-EC29-4FDA-A8BE-0E2D4E6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A85-8EC8-4EDA-B669-A1421683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999-82DF-47B2-B797-5C90024D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1D6-9175-4927-BD24-AE10FEF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0EA-6352-4FDF-A6CD-B300D23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34F-B616-4268-A671-50295B3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D2443-8C30-42C9-910F-1796727C6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