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409189"/>
        <c:axId val="24150378"/>
      </c:barChart>
      <c:catAx>
        <c:axId val="93409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150378"/>
        <c:crosses val="autoZero"/>
        <c:auto val="1"/>
        <c:lblAlgn val="ctr"/>
        <c:lblOffset val="100"/>
        <c:noMultiLvlLbl val="0"/>
      </c:catAx>
      <c:valAx>
        <c:axId val="241503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409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D820-C04D-495E-B1B0-AE724B69B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62E1-A7F5-4B81-89B5-C7966553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181-9444-45F7-AB34-0B988BF5A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F57D-82A6-419B-8443-4BFE1E41F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B4C4-495F-4436-90E1-F2F90563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BC9-9F46-41CA-A148-B9D08EA32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6FA4-47D1-4EFD-9DDF-98097D61F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BD05-0471-46EC-8817-055C789C8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39BD-DD46-4633-BF7E-E60FBCB10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C315-9100-499F-8B2D-F95362AC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903F-C2A3-49BA-B849-F4ED3E70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59C8-CBA0-405B-A611-0A241D7C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E105B7-B7FA-49B4-B61F-5A76A5723D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