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47260"/>
        <c:axId val="8047797"/>
      </c:barChart>
      <c:catAx>
        <c:axId val="87547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797"/>
        <c:crosses val="autoZero"/>
        <c:auto val="1"/>
        <c:lblAlgn val="ctr"/>
        <c:lblOffset val="100"/>
        <c:noMultiLvlLbl val="0"/>
      </c:catAx>
      <c:valAx>
        <c:axId val="8047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7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D0F-EED1-41FD-A35D-0D7C275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E26-55E4-4C82-A91C-C45A0BA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48F-CA42-4F78-999B-EB3D49C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CFA-18A7-4CCE-A41A-3D1A786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11B-F30C-4CDB-B7C7-2C4A94A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92A-8070-4EE4-BAC7-176E5009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0E1-7967-410A-9926-21719D7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DFA-34A9-44A5-A158-77FD221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CB2-39DD-4FCB-884C-0602115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1C2-BA46-4E34-B963-C523FF3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914-3369-43C0-AAF3-F2C5950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2AD-DB41-415F-825B-034B0D2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BDF84-FF3D-4184-B351-872F1B1F7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