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2986392"/>
        <c:axId val="18706828"/>
      </c:barChart>
      <c:catAx>
        <c:axId val="2298639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8706828"/>
        <c:crosses val="autoZero"/>
        <c:auto val="1"/>
        <c:lblAlgn val="ctr"/>
        <c:lblOffset val="100"/>
        <c:noMultiLvlLbl val="0"/>
      </c:catAx>
      <c:valAx>
        <c:axId val="1870682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298639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0E0F6-04B9-4636-BD85-884C2E3AD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46F55-36D4-4027-B857-FF43CFA3B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9F9C8-3C72-435F-95C6-CAC0FA63A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33BD8-5CAD-48C8-B781-362A0240B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573CA-7707-4DE6-8476-73606AAF7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ADD0C-0540-4392-8C59-CA1FCA9C1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7D827-25AC-4DF1-A0E6-6B3624441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B1B2F-D953-42AB-BFE0-12EB7A2E6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A2B32-1413-4724-8EB6-76374158C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A1188-F8CB-4B24-A23B-49CD7D7D0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FE64C-1811-4B2C-9750-F089EBEC7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D16A7-F30F-4A9B-A163-89BF92484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A55836-D6A9-44ED-9832-1EED31081F4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