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43428"/>
        <c:axId val="31350681"/>
      </c:barChart>
      <c:catAx>
        <c:axId val="96243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50681"/>
        <c:crosses val="autoZero"/>
        <c:auto val="1"/>
        <c:lblAlgn val="ctr"/>
        <c:lblOffset val="100"/>
        <c:noMultiLvlLbl val="0"/>
      </c:catAx>
      <c:valAx>
        <c:axId val="31350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43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44B-BD23-44D7-9C44-08C17CF6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8B8-89AA-4994-BE77-D2C1185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CB1-D2DB-426E-AC7C-CD3B06C1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96E-F134-4649-B3BF-8B09685E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D2B-3E5C-4F6C-9050-3B892A16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4C6-C61A-4E93-84EB-894D9C87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50C-921A-42D5-ACE6-0A8B097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ADF-1940-4DE3-BE09-94F7798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134-D871-423D-96A0-1B562E2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1F2-2C6F-4D4D-B8AE-51A6F5B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EDB-FFBA-4B5C-BC93-0246506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5D5-D9B0-4876-B8FA-4C361B9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E7049-435D-4746-9949-F489019A5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