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36659"/>
        <c:axId val="72993623"/>
      </c:barChart>
      <c:catAx>
        <c:axId val="79536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93623"/>
        <c:crosses val="autoZero"/>
        <c:auto val="1"/>
        <c:lblAlgn val="ctr"/>
        <c:lblOffset val="100"/>
        <c:noMultiLvlLbl val="0"/>
      </c:catAx>
      <c:valAx>
        <c:axId val="72993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6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243-7CE4-4A72-AB0E-1E84212B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1A5-4D05-4472-9109-AA243361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B7A-2D9B-48E7-AC5C-96D507FF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CAD-A67E-4FA3-B06F-495289BC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B60-B159-4C53-8286-B868EF4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706-8BB9-4487-92FF-DB9E6109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B6F-8CC8-4A51-984F-585C1AE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FA9-64B9-4B5B-A82E-74C9A8B9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091-AF78-401E-B0A5-ADDF62D9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D85-8661-4CDB-AB5A-B63125A2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E0D-D92D-4046-AB6D-9800EE2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E44-B719-4A5B-AF79-9F5B094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827F1-FD2B-4C52-91AA-09CCBF93B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