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82930"/>
        <c:axId val="93842096"/>
      </c:barChart>
      <c:catAx>
        <c:axId val="99182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2096"/>
        <c:crosses val="autoZero"/>
        <c:auto val="1"/>
        <c:lblAlgn val="ctr"/>
        <c:lblOffset val="100"/>
        <c:noMultiLvlLbl val="0"/>
      </c:catAx>
      <c:valAx>
        <c:axId val="93842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82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B4B-237F-4F08-A974-59C5CD48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0BD-5739-4DBB-BC94-9058BCD0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879-58E2-477B-B295-846BBC0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ADA-477C-44B1-AE7D-B0BEC1D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E7E-7897-459B-9F12-E838B74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1C4-9EE4-4EE8-A43D-68CBF2F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86B-9447-4548-BBA7-7D2A7CF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97B-C94A-431D-9AD7-B0DB5706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99C-1D9E-4963-ADE1-3FB9CA6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91D-70D2-4EAE-8F22-1E6A1D7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3A9-41BE-4BF7-A347-C6708A2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E2F-2C26-49C1-9D37-7F716C9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CA50B-880E-44B5-A0E2-FA120B2C3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