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314048"/>
        <c:axId val="3420777"/>
      </c:barChart>
      <c:catAx>
        <c:axId val="373140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0777"/>
        <c:crosses val="autoZero"/>
        <c:auto val="1"/>
        <c:lblAlgn val="ctr"/>
        <c:lblOffset val="100"/>
        <c:noMultiLvlLbl val="0"/>
      </c:catAx>
      <c:valAx>
        <c:axId val="34207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140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D7BB-C14E-4E01-805E-0F3E9473D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5E73-AF50-4F18-BF32-D06B7277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B80C-E4FD-46A6-A69B-8F347110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6F81-A65A-42D8-85A4-349D71EB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0D5E-6E74-4B84-A81A-B8299A09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1A24-440A-4424-98C5-4F68DA27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DE61-F021-4D1E-8BA1-AE79F710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2AF-A417-4C15-AAEB-D64E24BD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0656-326A-408C-ADA5-C29C07B3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4FD5-ACAA-4A2E-B4B6-CF39A949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D68C-451E-41A7-B2A2-7FB04374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24D3-DED2-4A69-8D6E-5515A5B7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93B61-3A76-4354-BAEA-95CFDC987A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