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2383"/>
        <c:axId val="36088409"/>
      </c:barChart>
      <c:catAx>
        <c:axId val="3212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88409"/>
        <c:crosses val="autoZero"/>
        <c:auto val="1"/>
        <c:lblAlgn val="ctr"/>
        <c:lblOffset val="100"/>
        <c:noMultiLvlLbl val="0"/>
      </c:catAx>
      <c:valAx>
        <c:axId val="36088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2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097-929D-4E81-B18B-C33389E8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640-72CD-4C7C-A727-5421917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282-08E7-457D-87DC-3A4B268D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320-A1BF-4E99-AD2C-A8DE5E93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E61-413C-4E37-B54C-AFD99885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9AA-BC81-4D21-83EE-563B9368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DEB-C460-4B36-80BA-E25AFE1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5D0-7D7D-4425-9E52-B9C8042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C1D-DFBB-4612-9552-57F81B31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A7C-43C4-4094-A0A9-F821E507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7C0-CC10-409B-9CD2-210FDCE2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15B-543F-46DC-9FAD-8245C7C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58469-73BA-4CC3-8471-3E878DB56D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