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237191"/>
        <c:axId val="64212247"/>
      </c:barChart>
      <c:catAx>
        <c:axId val="43237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2247"/>
        <c:crosses val="autoZero"/>
        <c:auto val="1"/>
        <c:lblAlgn val="ctr"/>
        <c:lblOffset val="100"/>
        <c:noMultiLvlLbl val="0"/>
      </c:catAx>
      <c:valAx>
        <c:axId val="64212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37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AA5-3995-4B18-937C-339D280E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0F3-3A4A-4C24-A61B-FA2B0450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4EB-27DD-4776-A510-84DBD262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C41-51FA-4B5F-93A1-E55CA048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8A6-FA0A-47AC-802A-442BA19A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339-87DA-4E24-AA46-172597E0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A3A-EC84-4DEF-98DE-981A7DC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7AF-A089-4AEA-B59D-2BC1DCA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DF9-81C7-4EC4-96C8-5E60C962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E00D-B3EC-4A79-9DBB-36B9748B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E26-178D-4FB0-B18B-291F675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B4-1D51-4804-BE75-9A23D2F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51F61-EEEB-4A2F-9417-6157EB7E35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