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56744"/>
        <c:axId val="90567601"/>
      </c:barChart>
      <c:catAx>
        <c:axId val="85156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7601"/>
        <c:crosses val="autoZero"/>
        <c:auto val="1"/>
        <c:lblAlgn val="ctr"/>
        <c:lblOffset val="100"/>
        <c:noMultiLvlLbl val="0"/>
      </c:catAx>
      <c:valAx>
        <c:axId val="90567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6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EA3-8652-4117-97ED-83B326B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23-39C6-4510-A47A-3543435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003-4068-44CC-B45A-803710D0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A1D-7091-40AB-A6EA-A799E424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D6D-1B22-4FC7-943E-E28B9E2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B28-6681-467E-9A73-C2BDAC0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BC0-3C78-42F5-A3D5-688EA84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220-A376-4B65-9A9B-58D31606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410-F228-48E4-AE43-9443E55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DE5-9A41-4AB4-AAFC-E9BC0EB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43D-4FAB-4518-8A2F-9121589C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418-BD80-4D38-8C45-E4F01F4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4070-FBD0-4F35-B914-FD8F5645A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