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51488"/>
        <c:axId val="9588965"/>
      </c:barChart>
      <c:catAx>
        <c:axId val="191514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8965"/>
        <c:crosses val="autoZero"/>
        <c:auto val="1"/>
        <c:lblAlgn val="ctr"/>
        <c:lblOffset val="100"/>
        <c:noMultiLvlLbl val="0"/>
      </c:catAx>
      <c:valAx>
        <c:axId val="9588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514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EED-1C18-4ACB-AB1A-55A5E724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07A-325B-4798-A7AB-6B71A92B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C38-F25F-4524-8766-02181CE8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8D9-D3A6-4DD4-83ED-4E839D2B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882-9346-471D-80A4-5E66BB84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60D-C556-4ABC-A6D6-1A013A8A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337-745C-4D8E-ABA5-6EE3A48E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54B-DD35-4D60-94C5-ED674264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B52-F571-48B0-B15E-C57A720A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F1C-BBEF-430E-9B2E-80F8A361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FAE-A642-47E3-93C1-05CBB6E6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577-D24F-499B-9535-B66F1DF5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BE848-7A66-4931-91A4-F278893A39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