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12896"/>
        <c:axId val="85188939"/>
      </c:barChart>
      <c:catAx>
        <c:axId val="356128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88939"/>
        <c:crosses val="autoZero"/>
        <c:auto val="1"/>
        <c:lblAlgn val="ctr"/>
        <c:lblOffset val="100"/>
        <c:noMultiLvlLbl val="0"/>
      </c:catAx>
      <c:valAx>
        <c:axId val="851889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128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A5F7-CB41-4D03-A82B-C379B606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5A4A-15ED-441E-8654-056B756B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71F3-1A21-4FEC-BCD0-57C4EE5B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49E3-0047-4210-AC08-807E6D82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8BEC-D550-4E08-8284-5E5C156C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677C-234F-4E65-A20F-7C4C14A1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BDB8-3F04-4C2F-AA5B-CE0B9E2F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41FE-45A8-450C-93D8-F3C1408D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8373-1944-406C-BE44-7E76E8AA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AE51-1F57-4CDF-9152-8E01D07D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2812-804E-42F2-8202-A912EC87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9324-0933-4234-9960-B13955A4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B87BF-8791-4EAC-998A-5B4DFCE30A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