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659"/>
        <c:axId val="45250377"/>
      </c:barChart>
      <c:catAx>
        <c:axId val="939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0377"/>
        <c:crosses val="autoZero"/>
        <c:auto val="1"/>
        <c:lblAlgn val="ctr"/>
        <c:lblOffset val="100"/>
        <c:noMultiLvlLbl val="0"/>
      </c:catAx>
      <c:valAx>
        <c:axId val="45250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C42-CEC2-4B60-AEED-0FFFEEC9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8F8-BB7F-4A2E-A463-6F4F80B6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FF5-A476-47C7-8297-2B9405FF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AA8-3DD7-4FF4-9E28-6C449A7B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7C0-14FE-4873-9B0A-57B87A18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ADC-1EFD-4D61-A836-CAC33CBE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998-D0A0-4A21-A224-D5004625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AE2-8EE1-463F-B98A-D07B617C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13E-A936-432C-A7D4-EE607F83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69D0-2A84-4F0E-9CF4-16109EA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77C-3CC2-44B5-BFC4-218A1DCA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15C-CB46-49A1-9CE9-F4F42DD7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A82C2-6152-4245-AB0C-0CC03F3A3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