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24208"/>
        <c:axId val="97728962"/>
      </c:barChart>
      <c:catAx>
        <c:axId val="68324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28962"/>
        <c:crosses val="autoZero"/>
        <c:auto val="1"/>
        <c:lblAlgn val="ctr"/>
        <c:lblOffset val="100"/>
        <c:noMultiLvlLbl val="0"/>
      </c:catAx>
      <c:valAx>
        <c:axId val="97728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24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A48-383E-43B3-B026-AF378419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366-2CD2-4B6F-8F48-F941FD25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D99-024B-449A-8A70-8DD43213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A7E-5F4A-4B45-88A9-80467F78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083-360B-4FDC-BBBE-5693BE89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50B-AD1C-4E47-B490-328EB20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94F-DAE5-464A-BC9E-2B1419D5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4A9-7919-4B4C-98A7-BE15287C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509-DB82-413C-A1CD-5BBB5263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C04-1D66-46E6-9100-F5E3872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CC5-DED3-4ECC-AECE-A585096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A62-49BB-4067-966C-79AB30A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D43F2-A80F-4D2B-8619-B32C9F055F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