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91536"/>
        <c:axId val="25556715"/>
      </c:barChart>
      <c:catAx>
        <c:axId val="94291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56715"/>
        <c:crosses val="autoZero"/>
        <c:auto val="1"/>
        <c:lblAlgn val="ctr"/>
        <c:lblOffset val="100"/>
        <c:noMultiLvlLbl val="0"/>
      </c:catAx>
      <c:valAx>
        <c:axId val="25556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1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29D-CCFE-41CB-B742-ED7F249B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EF8-E022-4717-97D1-85D58B02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B47-EFE7-42E4-BADD-0D66E5E6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02F-6937-433E-8920-2AB857F0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E02-0C61-44F6-85B1-C469E931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767-4C60-4ED3-A8EE-4B897091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71B-569D-4137-929B-69609A2A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D10-0756-4A58-AD01-2E020606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F06-9B95-4761-BA93-7EF4C7C5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790-3C58-489B-88A0-8684CAA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347-24A5-4187-A8CC-C4772B2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B64-3A84-41E0-98B5-7B46713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5EE33-31C8-4217-AC20-CD2615220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