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21383"/>
        <c:axId val="97370503"/>
      </c:barChart>
      <c:catAx>
        <c:axId val="67921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70503"/>
        <c:crosses val="autoZero"/>
        <c:auto val="1"/>
        <c:lblAlgn val="ctr"/>
        <c:lblOffset val="100"/>
        <c:noMultiLvlLbl val="0"/>
      </c:catAx>
      <c:valAx>
        <c:axId val="97370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21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855-04F3-4EBA-A0BE-FAA69B9A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1E5-1EAF-4B4C-A183-329EE29D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C3F-46E1-44A7-96A3-E777AE7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5C8-398C-4BAC-ACF0-2A46D645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3DF-77F1-4718-AD86-EE6B1D9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AC9-2CE9-4413-A43B-8E7CB61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60D-687C-421C-94DB-F2C58F87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D23-AE23-424D-AC1A-D999C57F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960-C382-493D-8B93-B0D3724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5E5-9CF4-447B-BBFB-9438239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801-6EE4-447D-B3A8-4347988F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AFD-5433-49B2-B1E8-CB65480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747C-9A41-417E-A79C-2558202D8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