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37408"/>
        <c:axId val="9037826"/>
      </c:barChart>
      <c:catAx>
        <c:axId val="37337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7826"/>
        <c:crosses val="autoZero"/>
        <c:auto val="1"/>
        <c:lblAlgn val="ctr"/>
        <c:lblOffset val="100"/>
        <c:noMultiLvlLbl val="0"/>
      </c:catAx>
      <c:valAx>
        <c:axId val="9037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37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6C7-BC0C-4A2D-B7F7-CC3E7BF3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218-B1C7-489B-81B1-4DE3A3A6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83C-1282-449B-9963-609E8CFC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CF2-8D51-4EB8-8542-B283C5A7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44C-1AE6-464A-B9F0-AD3219BF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3A5-4B28-4B6C-97CB-9888DBB6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487-64E1-4811-8011-BF524635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E25-A8E4-420E-9ECF-8BCDE87F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420-3AE1-4C72-88AE-5A78E607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1B9-C98F-462C-BF5C-F9F714F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66A-60E6-4267-88B9-3A0B22D7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7B3-F150-4DA7-98F6-4E057D33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EEC64-4E07-46DD-83B9-9780E05E74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