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24667"/>
        <c:axId val="60928819"/>
      </c:barChart>
      <c:catAx>
        <c:axId val="91724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28819"/>
        <c:crosses val="autoZero"/>
        <c:auto val="1"/>
        <c:lblAlgn val="ctr"/>
        <c:lblOffset val="100"/>
        <c:noMultiLvlLbl val="0"/>
      </c:catAx>
      <c:valAx>
        <c:axId val="60928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24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85A5-28B2-4163-9798-752C67BA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4B06-55DD-4505-9CB8-8236849B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91D-BF5B-44E5-9E1F-9D367827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624B-B902-414B-B8BC-84BB591A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D555-5516-48DE-8BE7-38E098F9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DE50-1B86-4AEB-A057-8B1135EA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7E8-C26B-4B1C-87FC-CDB93908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9D3-E58F-4C3A-943A-0D1A72DB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5C6F-222F-4E8F-BA26-379FB490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B39-6F18-4D63-A01A-C440DAB3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31BC-D975-4919-9DF2-12B5F97D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4CA9-53DC-42F0-A285-765BD5EC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C3EFA-0F3B-4A85-9E5F-1D72F31B1C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