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6817169"/>
        <c:axId val="50043935"/>
      </c:barChart>
      <c:catAx>
        <c:axId val="2681716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0043935"/>
        <c:crosses val="autoZero"/>
        <c:auto val="1"/>
        <c:lblAlgn val="ctr"/>
        <c:lblOffset val="100"/>
        <c:noMultiLvlLbl val="0"/>
      </c:catAx>
      <c:valAx>
        <c:axId val="5004393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81716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CEDBE-A2B9-4578-9ED7-C2D4FAC33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7279C-02C9-4520-B674-BDF3CC8F2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060D5-6067-4DAC-9435-B1070B1DE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46B4C-7D15-404D-BE7B-08A616FBA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A2367-F61A-4E39-AAE5-8B30F2EA9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142B8-4199-4A0A-8CD8-BA84BC36F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D689A-E961-4119-94C0-97F0AD150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786BF-939C-4892-A9F7-26EB0A93A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71ACA-C7A2-4813-9A27-C028FDA09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FA9A7-05EA-4293-BACE-F8E1167EE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FFBD0-E453-4B86-8AE9-CFEC024BB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6CA51-A514-46FA-91F5-DDE70902C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8752C8-A445-495C-A12C-CA8389536BC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