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751658"/>
        <c:axId val="43392720"/>
      </c:barChart>
      <c:catAx>
        <c:axId val="357516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92720"/>
        <c:crosses val="autoZero"/>
        <c:auto val="1"/>
        <c:lblAlgn val="ctr"/>
        <c:lblOffset val="100"/>
        <c:noMultiLvlLbl val="0"/>
      </c:catAx>
      <c:valAx>
        <c:axId val="433927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516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62CC-B9A4-420E-8A73-99F53F76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1D37-FB58-4C35-BAD6-FB01EA75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72D0-6754-4E57-86E8-ABEF8321B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2AE8-FB12-455C-AF64-DE6B9F72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A87B-61D3-4DD1-AE3A-7FE8B74D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202F-8DCC-4CFB-A6F0-D7664061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4886-9E10-4D40-8C64-3A59CA1AB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799E-7F0D-4437-B562-33579B0D7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A7FB-CE7E-423D-8332-7660CB89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D3EC-64E1-456F-8884-EDE20C1B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D84D-C649-4D61-B73B-B67053059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EEFF-2C6C-4951-9226-EC8D38A6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A6101B-C039-40A4-AD23-1307B3B50A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