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81885"/>
        <c:axId val="60730505"/>
      </c:barChart>
      <c:catAx>
        <c:axId val="20081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30505"/>
        <c:crosses val="autoZero"/>
        <c:auto val="1"/>
        <c:lblAlgn val="ctr"/>
        <c:lblOffset val="100"/>
        <c:noMultiLvlLbl val="0"/>
      </c:catAx>
      <c:valAx>
        <c:axId val="60730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81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E0D-EBBF-4A12-BF2E-95A29C40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0D3-1DCA-48F9-8D12-BED80AAB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526-0215-4FEA-97D8-A7C8E1BF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552-3F48-4B3B-B702-DD271D1E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6E6-3BEB-41BE-AC5D-C9F94CAF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A42-7F87-43AC-B469-7BF52244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650-8E5A-44F6-8ACD-F363EC9D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1F8-B565-4F58-AFD5-3DDE7CAA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567-591F-451B-9D38-34B07D0C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C8B-B5CF-4E2E-9352-E3D7CB79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F19-DA06-4286-95AE-59F5E04E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021-6795-4144-A2A0-5CBA18CE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E02BB-E6FE-4A08-8135-DDDFED562A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