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84960"/>
        <c:axId val="43009176"/>
      </c:barChart>
      <c:catAx>
        <c:axId val="75784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09176"/>
        <c:crosses val="autoZero"/>
        <c:auto val="1"/>
        <c:lblAlgn val="ctr"/>
        <c:lblOffset val="100"/>
        <c:noMultiLvlLbl val="0"/>
      </c:catAx>
      <c:valAx>
        <c:axId val="43009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84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74B-FA37-4A63-BBB5-758DEA3C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B98-C0FE-4782-AAF9-5D52924E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306-3C7A-48AF-B653-FF7A455B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491-A1E8-4725-8068-B35E553F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A4D-2508-44A5-87D4-16DB53B9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621-938B-4349-812B-3839A6D6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415-0183-4FBC-9F9A-2CE549D7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1D8-A22E-4CAF-ACE5-3475B5A0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6E2-4C52-455F-AD15-8CB8144D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BA5-19BB-4AAF-88CB-F14808EA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20A-E5FC-4151-A9C9-0314309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292-D641-4F45-A3FC-7433613B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73ECB-2695-4A49-8D0C-A48348B1F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