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8443"/>
        <c:axId val="66746061"/>
      </c:barChart>
      <c:catAx>
        <c:axId val="9308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46061"/>
        <c:crosses val="autoZero"/>
        <c:auto val="1"/>
        <c:lblAlgn val="ctr"/>
        <c:lblOffset val="100"/>
        <c:noMultiLvlLbl val="0"/>
      </c:catAx>
      <c:valAx>
        <c:axId val="66746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8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D02-A528-48F0-AE0E-69E2748C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08F-6D46-4C57-845D-A7DCF85E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12B-B3F4-4E5E-BD62-1B587018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D3A-23DE-4B25-B742-F2389E44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CED-4FA5-4BFE-973E-4A7705A4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451-2837-46C8-BE15-27B712F9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860-2536-4CC8-B6CF-82C12EBF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D52-67C8-46E5-8EB3-3E2E1F63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ABC-1614-4EA2-9754-B45B0358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F7B-1D85-4CE2-92B2-F7B644A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09E-4518-402A-AF9C-F091501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35A-2554-45AB-B238-FAB0FA7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AA6AF-61D0-4360-98CA-384B7AA57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