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8678"/>
        <c:axId val="8551023"/>
      </c:barChart>
      <c:catAx>
        <c:axId val="6948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1023"/>
        <c:crosses val="autoZero"/>
        <c:auto val="1"/>
        <c:lblAlgn val="ctr"/>
        <c:lblOffset val="100"/>
        <c:noMultiLvlLbl val="0"/>
      </c:catAx>
      <c:valAx>
        <c:axId val="8551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8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9A98-5396-4C3E-A200-6F1C650F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306-4ECD-4FA9-8BBA-5A5EAD2C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C89-9CB1-4919-81E5-A30DCAD3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B097-86F5-48EE-9797-AB1C1296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5B2F-4102-4DE1-BB8E-4BE1D425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A65D-72C5-464F-B326-35826FF1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D0B-F54C-4667-93D6-5A4BB115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9B8-B683-49B5-AA86-EEB0D990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760-F188-4839-AFA6-8A6F97AA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056-ACB6-461C-9A63-F1CED73D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22D0-96B0-4F95-95B8-07DB8A8D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C26-B90F-4DEE-8C7A-21247D98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2970D-17AA-41F3-BA13-70EABAC532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