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67426"/>
        <c:axId val="1795368"/>
      </c:barChart>
      <c:catAx>
        <c:axId val="46667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5368"/>
        <c:crosses val="autoZero"/>
        <c:auto val="1"/>
        <c:lblAlgn val="ctr"/>
        <c:lblOffset val="100"/>
        <c:noMultiLvlLbl val="0"/>
      </c:catAx>
      <c:valAx>
        <c:axId val="1795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7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3DE-BDFE-4CE8-9579-9953F94B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210-D683-412F-A762-580285C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2CE-40B0-4FA3-BE80-4E413469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12-2B99-4CFF-BE5E-624A5774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43D-3310-409C-BFBA-BC93513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DC1-B668-40C5-9A49-6B382F7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1D0-F6F9-47B8-BF37-159068E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9BB-746B-4957-93E5-D58D404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FA5-1E34-436D-8102-940E5DB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0DD-E280-4550-A9B5-AA348B6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7F6-9A34-4ACB-B4CE-EF60640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5E0-78D8-4013-8686-E524C2B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0F30D-2A37-42B8-9D19-1C16609A2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