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22395"/>
        <c:axId val="18919961"/>
      </c:barChart>
      <c:catAx>
        <c:axId val="37922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19961"/>
        <c:crosses val="autoZero"/>
        <c:auto val="1"/>
        <c:lblAlgn val="ctr"/>
        <c:lblOffset val="100"/>
        <c:noMultiLvlLbl val="0"/>
      </c:catAx>
      <c:valAx>
        <c:axId val="18919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22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56A-ABCA-487F-9549-6984BC40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E80-E12E-49B6-81B9-BFBD896E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933-B7D1-4CC3-AFA6-57A8926E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C6F-C4E4-419D-BCEB-445C8CC0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4CC-A3A6-4A5E-B14B-1AD2C19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06C-E452-4E25-9512-72F40A59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C05-CD9B-43B1-A981-6F78C9EA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870-4DAE-4E58-BDA6-1E592D2E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F2D-46C9-4D74-B3B9-1832BABA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D07-8E52-4261-9B19-8921057A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E6F-C0E5-4D3F-97A5-86541F3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5BA-504A-425B-834B-00556D1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3BD77-9E5D-4494-BDFA-55C442523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