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87231"/>
        <c:axId val="66019993"/>
      </c:barChart>
      <c:catAx>
        <c:axId val="73187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19993"/>
        <c:crosses val="autoZero"/>
        <c:auto val="1"/>
        <c:lblAlgn val="ctr"/>
        <c:lblOffset val="100"/>
        <c:noMultiLvlLbl val="0"/>
      </c:catAx>
      <c:valAx>
        <c:axId val="66019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87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F1E-ACF2-4601-8963-BD625C43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320-EDA0-4E66-935F-BE4D1798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700-4ACA-4FB4-9B2A-6933CF72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EA3-F9DD-4C4C-89E0-58AE0252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BE5B-0480-4A0E-AA27-D0C67C9B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F64-5069-40A5-8C23-FAF4462F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26F-DAAD-4ADD-A369-4F997FFB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4A6-1A8D-435C-BF07-C16D23F9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D0A-A2DB-47B1-8FF6-3A355205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88C-E876-467B-8E68-2E2449CA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F56-2478-48D8-BB73-37E35964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8E0-9F1A-4B92-AF8F-EA2C7BA7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7D802-DF8D-49F3-A507-8A4EEF9C49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