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80848"/>
        <c:axId val="6720912"/>
      </c:barChart>
      <c:catAx>
        <c:axId val="14180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0912"/>
        <c:crosses val="autoZero"/>
        <c:auto val="1"/>
        <c:lblAlgn val="ctr"/>
        <c:lblOffset val="100"/>
        <c:noMultiLvlLbl val="0"/>
      </c:catAx>
      <c:valAx>
        <c:axId val="6720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0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455-27CE-43C2-BF28-CE2E1C7C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E90-FF89-4065-8211-F5E62653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9B2-5A77-40C7-8447-CC9D3297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57A-060F-4C91-A9A7-6E81173D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951-2156-463D-ABC7-F7E959A6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9BD-1573-4CCE-BDEC-CDC3303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BEB-92E6-4BCF-BB64-8559DA1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856-3AAC-4EDA-8435-6308F443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BC0-126B-430C-8604-3941A5D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303-E6C0-4AB0-986A-4CE6F45A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FDD-9D3E-41BA-8D40-19ED6FD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564-A049-4FD3-BCFA-2FA43517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7B17-5495-440A-A83C-F2159FE658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