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699872"/>
        <c:axId val="40775873"/>
      </c:barChart>
      <c:catAx>
        <c:axId val="836998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75873"/>
        <c:crosses val="autoZero"/>
        <c:auto val="1"/>
        <c:lblAlgn val="ctr"/>
        <c:lblOffset val="100"/>
        <c:noMultiLvlLbl val="0"/>
      </c:catAx>
      <c:valAx>
        <c:axId val="407758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6998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1A02-1949-4422-9B9E-12D58F5FA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1CFE-19B1-4081-A1AD-B82F1BD1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8DA8-D136-487C-8F77-7FC53679C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0211-AF99-45A7-B1B6-AC0E229C8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CEEF-94A3-4446-B6F1-852803B1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DCA9-E843-4110-BFBE-02E8C0BB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108E-F029-45EB-A9B4-A0E98DAC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F2E3-8A24-4271-A2C3-DB05168D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C606-2568-4AB2-84FB-B7880EFF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A75A-D53C-48DC-B107-D852A493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DA48-C684-4A35-9FA6-26F178D8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314D-9A03-4778-9287-A6BA6BDF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E5EF16-5241-4AFF-88AD-46F47A8D0A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