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27578"/>
        <c:axId val="37390817"/>
      </c:barChart>
      <c:catAx>
        <c:axId val="85127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0817"/>
        <c:crosses val="autoZero"/>
        <c:auto val="1"/>
        <c:lblAlgn val="ctr"/>
        <c:lblOffset val="100"/>
        <c:noMultiLvlLbl val="0"/>
      </c:catAx>
      <c:valAx>
        <c:axId val="37390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27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F49-16E4-4F50-A5FA-B97BB417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F81-8B4C-45D2-83E8-0F8161FB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288-F238-475C-B5BC-2A849531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BDF-38F3-4802-A56B-F8FF69AA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8FF-5C40-448B-B37B-A1CF57A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00D-90A6-432A-A443-BF8C940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9E9-D3A1-4074-ADFE-3A41DD9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C78-AA7B-41AF-9E39-F8CB7799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0F0-3F6D-4D9E-AC19-72D4D603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53F-25D7-4B01-85E4-66E510C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482-9FF8-43F1-8C02-5F7B17E1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218-4D6D-49BD-838A-753E72C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43BE-CFA3-4364-BB1E-B0E883EF02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