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54439"/>
        <c:axId val="566330"/>
      </c:barChart>
      <c:catAx>
        <c:axId val="79754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330"/>
        <c:crosses val="autoZero"/>
        <c:auto val="1"/>
        <c:lblAlgn val="ctr"/>
        <c:lblOffset val="100"/>
        <c:noMultiLvlLbl val="0"/>
      </c:catAx>
      <c:valAx>
        <c:axId val="566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54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735-05C3-4757-A1E3-A0574BD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510-002F-4A63-80A0-2BF53E6E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C8F-A27C-4623-A735-52AD4921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DF5-8AFA-4F0B-AB2B-2CEAE19A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BB3-41B6-45E2-9C01-DAC0EEC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612-C0BD-4D4A-91BB-011FED01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369-1576-4F01-AE44-3DBD6F0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2D7-5A1D-4613-9E0F-40106F4E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7F1-0018-4C0E-B53F-5C7D8ED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659-95EA-4A33-94FF-31725AD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DF6-738C-4B46-B9EE-B87AAB0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208-A8BD-432E-9ABB-B170B2B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DDB16-4F32-4565-8FF1-7902CB7B2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